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5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6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7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0D565-B47C-44F3-9D1D-BD4EB009ED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04DEF-EC87-4FE7-A3BC-03AD2080E9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BE068-EC97-4392-8987-52239FA150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08B6F-3AD0-44F2-8056-5E031618F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DDEA4-A8FB-46E6-BCD3-432F0A9ABA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228A-AF54-4AB8-AC01-CFA56379A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0C7F-F122-4515-82DE-F740736E7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0D49-2F15-4131-8E97-DEB016B40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0CC7-236D-4872-BC58-8AEA17ECA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CDDA53-E408-439A-99E6-BE7D9A2088A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0EF57D-3946-420F-874F-8B1A45ECBD7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D87BD9-9C7E-42D9-BA17-F0427728311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371DBA-0A43-4E0F-B7D5-ED43C90F977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3F598D-BC69-460E-A08E-684E31EED7F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53D976-F485-49AF-ACC4-DAF08663647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DE88E6-8165-43AD-B453-94E4B17627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076E-D831-4D96-A6CA-1F0FB4620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68692A-B668-417B-BB49-7274E38F266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CACA7C-1D99-4DC9-9938-3E2B9B7BEA6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BDB362-A2F8-4162-8BD4-3ACEED7F2E1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83B5CE-BA8A-4506-9D62-031C9002175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C7FB20-D645-44C4-B457-176B55992D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975B-80BF-4C63-A5B2-FD3A4C452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3654-91E6-4EF5-AE8D-521BCB940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AB73-BEF6-40EC-9F0E-112B2C255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F9EA-EA6B-4484-A0EA-E75D527E5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43D1-0A8C-4734-A97D-9F193DC35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CF7B-9B46-4A93-B107-73B8112BE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AAA1-B55F-417A-95CA-F01B02B4F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B5703-2157-470C-B3B9-1575EBC40D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7C9F8B7A-8828-4514-8CE2-089A23B28B11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8F11568A-5681-4E06-854B-71522CCB6EAC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FCFF9-59D7-4450-B2F7-CA5E54DE0E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440" y="2421000"/>
            <a:ext cx="914112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Rapid Response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General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8280" y="1844640"/>
            <a:ext cx="82170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describes the composition and role of functional, technical multi-disciplinary teams of experts (Rapid Response Teams) that should be deployed in case of emergenc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341360"/>
            <a:ext cx="814716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importance of having fully operational Rapid Response Teams (RRTs) able to act immediately once a suspicious case is re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composition and terms of reference of the R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the activities  of the R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7646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RT is a group of experienced experts that are on stand-by and can reach any part of the country within 24 hours. Their actions will help to contain/stop an outbreak early on. They will survey the first case(s), provide health care in a central facility, engage with the community and carry out infection, prevention and control measures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Composition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1236240"/>
            <a:ext cx="40320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psychosocial support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data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media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tent Placeholder 2"/>
          <p:cNvSpPr/>
          <p:nvPr/>
        </p:nvSpPr>
        <p:spPr>
          <a:xfrm>
            <a:off x="4356000" y="1236600"/>
            <a:ext cx="4537080" cy="32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Sub-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techn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worker, psychiatric n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data cle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local media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ontent Placeholder 2"/>
          <p:cNvSpPr/>
          <p:nvPr/>
        </p:nvSpPr>
        <p:spPr>
          <a:xfrm>
            <a:off x="611280" y="5157720"/>
            <a:ext cx="820872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The number of subnational teams depends on the level of risk,</a:t>
            </a:r>
            <a:br>
              <a:rPr sz="2000"/>
            </a:b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human resource availability and geographic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et up one at National level and at least one at subn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medical staff on WHO-AFRO module applied in Liberia, including mock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Mapping of health facilities and identify potential ETC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Community volunteers and Epis in subnational RRT (24h hotl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Financial support from E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imulation exerc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1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50920" y="1052640"/>
            <a:ext cx="85183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2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457200" y="1052640"/>
            <a:ext cx="8534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 appropriate strategies and control measures including risk communications activ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detailed investigation repo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e to the final evaluation of the outbreak respon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e rumors, reported outbreaks, and other public health emer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e rapid response actions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s and other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te the implementation of the propo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measures including capacity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3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5400" spc="-1" strike="noStrike">
                <a:solidFill>
                  <a:srgbClr val="0000ff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3:27:53Z</dcterms:modified>
  <cp:revision>145</cp:revision>
  <dc:subject/>
  <dc:title>DPC Training and Technical Update</dc:title>
</cp:coreProperties>
</file>